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FD56-01E6-4B37-A0EE-86C3B6F69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137A-AE41-4A22-969C-BE2063DD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0376-3D81-44BE-B398-ED4C01B68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98D-F5C2-45AC-8BB2-69FF1EA6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DC3D-31F1-4585-8406-D58A1FAA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16E6-BECC-4351-8E0F-8F7252AB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08F2-BF37-45AA-95B6-7293BB4EE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0D2B-3948-49A3-B8AC-ECE71EC7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DB1-2475-4483-8CE2-4468868B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1DB-0656-4C97-9F7D-35537900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3472-C39C-424E-B425-FF3900F9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A08-F6D1-443C-9BE1-AB89975D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D894-6065-47AD-B399-469BC453A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vernment Distribution of Power Cornel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“distribute power”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person(s) or group(s) is in charge of making decisions in the gover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times it is distributed to many groups, and sometimes in the hand of on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so called “levels of govern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What are the 3 ways power is distribu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e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d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 How does a unitary form of government distribute power?  Examp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is concentrated on one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hority is centralize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ary does NOT equal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example: Communist party in China, small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example:  Cobb County Central Office &amp; School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How does a confederation distribute power? Exam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confederations, states or countries keep their own power but work together for a common 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 do NOT try to take power from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example: 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example:  Team 7-1 or Team 7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 How does a federal government distribute power?  Exam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 is in several places—some in central government, some in regions or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people make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example: US government has state and national p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example:  Cobb County rules &amp; Daniell Middle r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2:32:21Z</dcterms:created>
  <dc:creator>Cobb County School District</dc:creator>
  <dc:description/>
  <dc:language>en-US</dc:language>
  <cp:lastModifiedBy>Cobb County School District</cp:lastModifiedBy>
  <dcterms:modified xsi:type="dcterms:W3CDTF">2009-10-08T15:13:36Z</dcterms:modified>
  <cp:revision>10</cp:revision>
  <dc:subject/>
  <dc:title>Government Distribution of Power Cornell Notes</dc:title>
</cp:coreProperties>
</file>